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8E47-AA6B-43C4-82FE-4F9F194706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555F-DEA8-4204-9D4F-0038D59B1EEE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4C50-CD1E-4D37-9C98-6F25D45F6D1E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E121-7326-4834-9D23-BC1EBCFABB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EC62-E7DB-49AB-8C7E-F41DCFA20366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BEA8-B335-4B31-806B-B6EAF5FC6737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D808-52FE-49BE-9D55-B93E58EE5D87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235C-0CF4-4D3E-B1EC-CC7F6D0609EE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2D76-B589-4430-90E9-0F7BCEB3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40E8-BD7C-4A58-8393-09C30A22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4FFC-2247-4908-B24E-89E67B74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5DE2-A84F-4012-9BD3-59A8F496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BC6-784A-43D3-B57B-2DEEAC69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06DA-38AF-4B1F-BC3D-40C62853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5296-0A12-438D-B84E-6D53C2CD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D4FF-6802-454E-B030-46BF5ACC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20F5-99BD-48ED-926F-9B884B00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F38D-33E4-47A5-9D02-76657541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E618-F653-4EE1-BBE7-D5846179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720C-BA9F-4604-99AD-408320EA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CF5B-6468-4284-800A-3DE588DBB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1720" y="4220640"/>
            <a:ext cx="5958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енник Татьяна Константи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grebennik@oparina4.ru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рганизационно-методическим отдел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БУ «НМИЦ АГП им. В.И. Кулакова» МЗ РФ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1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  <p:pic>
        <p:nvPicPr>
          <p:cNvPr id="90" name="Группа 8" descr=""/>
          <p:cNvPicPr/>
          <p:nvPr/>
        </p:nvPicPr>
        <p:blipFill>
          <a:blip r:embed="rId3"/>
          <a:stretch/>
        </p:blipFill>
        <p:spPr>
          <a:xfrm>
            <a:off x="1474920" y="4932360"/>
            <a:ext cx="532764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92" name="Группа 13"/>
          <p:cNvGrpSpPr/>
          <p:nvPr/>
        </p:nvGrpSpPr>
        <p:grpSpPr>
          <a:xfrm>
            <a:off x="727200" y="2093760"/>
            <a:ext cx="10101240" cy="4326120"/>
            <a:chOff x="727200" y="2093760"/>
            <a:chExt cx="10101240" cy="4326120"/>
          </a:xfrm>
        </p:grpSpPr>
        <p:pic>
          <p:nvPicPr>
            <p:cNvPr id="93" name="Схема 2" descr=""/>
            <p:cNvPicPr/>
            <p:nvPr/>
          </p:nvPicPr>
          <p:blipFill>
            <a:blip r:embed="rId1"/>
            <a:stretch/>
          </p:blipFill>
          <p:spPr>
            <a:xfrm>
              <a:off x="727200" y="2093760"/>
              <a:ext cx="10101240" cy="43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5"/>
            <p:cNvSpPr/>
            <p:nvPr/>
          </p:nvSpPr>
          <p:spPr>
            <a:xfrm>
              <a:off x="944640" y="2747160"/>
              <a:ext cx="184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7"/>
            <p:cNvSpPr/>
            <p:nvPr/>
          </p:nvSpPr>
          <p:spPr>
            <a:xfrm>
              <a:off x="1198800" y="3968280"/>
              <a:ext cx="1074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12"/>
            <p:cNvSpPr/>
            <p:nvPr/>
          </p:nvSpPr>
          <p:spPr>
            <a:xfrm>
              <a:off x="1362960" y="5296680"/>
              <a:ext cx="1171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11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16"/>
          <p:cNvSpPr/>
          <p:nvPr/>
        </p:nvSpPr>
        <p:spPr>
          <a:xfrm>
            <a:off x="1125360" y="26827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1444680" y="400536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8"/>
          <p:cNvSpPr/>
          <p:nvPr/>
        </p:nvSpPr>
        <p:spPr>
          <a:xfrm>
            <a:off x="1144440" y="5291280"/>
            <a:ext cx="4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03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104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гион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2" name="Группа 13"/>
          <p:cNvGrpSpPr/>
          <p:nvPr/>
        </p:nvGrpSpPr>
        <p:grpSpPr>
          <a:xfrm>
            <a:off x="947880" y="852480"/>
            <a:ext cx="7958160" cy="4956120"/>
            <a:chOff x="947880" y="852480"/>
            <a:chExt cx="7958160" cy="4956120"/>
          </a:xfrm>
        </p:grpSpPr>
        <p:pic>
          <p:nvPicPr>
            <p:cNvPr id="113" name="Схема 2" descr=""/>
            <p:cNvPicPr/>
            <p:nvPr/>
          </p:nvPicPr>
          <p:blipFill>
            <a:blip r:embed="rId1"/>
            <a:stretch/>
          </p:blipFill>
          <p:spPr>
            <a:xfrm>
              <a:off x="947880" y="852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Box 5"/>
            <p:cNvSpPr/>
            <p:nvPr/>
          </p:nvSpPr>
          <p:spPr>
            <a:xfrm>
              <a:off x="1504800" y="15318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7"/>
            <p:cNvSpPr/>
            <p:nvPr/>
          </p:nvSpPr>
          <p:spPr>
            <a:xfrm>
              <a:off x="1973160" y="3102480"/>
              <a:ext cx="1814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12"/>
            <p:cNvSpPr/>
            <p:nvPr/>
          </p:nvSpPr>
          <p:spPr>
            <a:xfrm>
              <a:off x="1567800" y="4579560"/>
              <a:ext cx="1814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Прямоугольник 11"/>
          <p:cNvSpPr/>
          <p:nvPr/>
        </p:nvSpPr>
        <p:spPr>
          <a:xfrm>
            <a:off x="2452680" y="3792600"/>
            <a:ext cx="779796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«Карту донесения о случае материнской смерти», учетная форма №003/у-МС утверждена приказом Минздрава России от 20 октября 2020 г. № 1130 н «Об утверждении Порядка оказания медицинской помощи по профилю «акушерство и гинекология», скрыв персональные да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20" name="Прямоугольная выноска 3"/>
          <p:cNvSpPr/>
          <p:nvPr/>
        </p:nvSpPr>
        <p:spPr>
          <a:xfrm>
            <a:off x="6411960" y="1658880"/>
            <a:ext cx="5405400" cy="1530360"/>
          </a:xfrm>
          <a:prstGeom prst="wedgeRectCallout">
            <a:avLst>
              <a:gd name="adj1" fmla="val -41370"/>
              <a:gd name="adj2" fmla="val 22935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аблице 1000 число медицинских абортов включает число медицинских абортов легальных (по желанию женщины) и число абортов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4" name="Овал 5"/>
          <p:cNvSpPr/>
          <p:nvPr/>
        </p:nvSpPr>
        <p:spPr>
          <a:xfrm>
            <a:off x="5524560" y="5600880"/>
            <a:ext cx="419040" cy="39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ая выноска 9"/>
          <p:cNvSpPr/>
          <p:nvPr/>
        </p:nvSpPr>
        <p:spPr>
          <a:xfrm>
            <a:off x="7432560" y="3616200"/>
            <a:ext cx="4384800" cy="1608120"/>
          </a:xfrm>
          <a:prstGeom prst="wedgeRectCallout">
            <a:avLst>
              <a:gd name="adj1" fmla="val -61574"/>
              <a:gd name="adj2" fmla="val 89527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(О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ая выноска 10"/>
          <p:cNvSpPr/>
          <p:nvPr/>
        </p:nvSpPr>
        <p:spPr>
          <a:xfrm>
            <a:off x="4444920" y="2654280"/>
            <a:ext cx="1841760" cy="1101600"/>
          </a:xfrm>
          <a:prstGeom prst="wedgeRectCallout">
            <a:avLst>
              <a:gd name="adj1" fmla="val 84083"/>
              <a:gd name="adj2" fmla="val 24137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13т1000г4ст4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с 12 до 2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 по медицинским показан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28" name="Прямоугольная выноска 3"/>
          <p:cNvSpPr/>
          <p:nvPr/>
        </p:nvSpPr>
        <p:spPr>
          <a:xfrm>
            <a:off x="6442200" y="1547640"/>
            <a:ext cx="5403600" cy="1530360"/>
          </a:xfrm>
          <a:prstGeom prst="wedgeRectCallout">
            <a:avLst>
              <a:gd name="adj1" fmla="val -41370"/>
              <a:gd name="adj2" fmla="val 22935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аблице 2000 указывается только число абортов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2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32" name="Овал 5"/>
          <p:cNvSpPr/>
          <p:nvPr/>
        </p:nvSpPr>
        <p:spPr>
          <a:xfrm>
            <a:off x="5524560" y="5600880"/>
            <a:ext cx="419040" cy="39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34" name="Прямоугольная выноска 3"/>
          <p:cNvSpPr/>
          <p:nvPr/>
        </p:nvSpPr>
        <p:spPr>
          <a:xfrm>
            <a:off x="7275600" y="1320840"/>
            <a:ext cx="4776840" cy="1714320"/>
          </a:xfrm>
          <a:prstGeom prst="wedgeRectCallout">
            <a:avLst>
              <a:gd name="adj1" fmla="val -80245"/>
              <a:gd name="adj2" fmla="val 232912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(О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38" name="Овал 6"/>
          <p:cNvSpPr/>
          <p:nvPr/>
        </p:nvSpPr>
        <p:spPr>
          <a:xfrm>
            <a:off x="5473800" y="599436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40" name="Прямоугольная выноска 3"/>
          <p:cNvSpPr/>
          <p:nvPr/>
        </p:nvSpPr>
        <p:spPr>
          <a:xfrm>
            <a:off x="7275600" y="1287360"/>
            <a:ext cx="4776840" cy="2427480"/>
          </a:xfrm>
          <a:prstGeom prst="wedgeRectCallout">
            <a:avLst>
              <a:gd name="adj1" fmla="val -77055"/>
              <a:gd name="adj2" fmla="val 16261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(О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44" name="Овал 6"/>
          <p:cNvSpPr/>
          <p:nvPr/>
        </p:nvSpPr>
        <p:spPr>
          <a:xfrm>
            <a:off x="5524560" y="631188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546120" y="2031840"/>
          <a:ext cx="10896480" cy="427212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29052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092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22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50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0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75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9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оме того:  внематочная беремен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98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зырный зано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удачная попытка абор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46" name="Прямоугольная выноска 3"/>
          <p:cNvSpPr/>
          <p:nvPr/>
        </p:nvSpPr>
        <p:spPr>
          <a:xfrm>
            <a:off x="7275600" y="1287360"/>
            <a:ext cx="4776840" cy="2451240"/>
          </a:xfrm>
          <a:prstGeom prst="wedgeRectCallout">
            <a:avLst>
              <a:gd name="adj1" fmla="val -75601"/>
              <a:gd name="adj2" fmla="val 144671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50" name="Овал 6"/>
          <p:cNvSpPr/>
          <p:nvPr/>
        </p:nvSpPr>
        <p:spPr>
          <a:xfrm>
            <a:off x="5524560" y="593568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2017800"/>
            <a:ext cx="848052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56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62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168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ая выноска 3"/>
          <p:cNvSpPr/>
          <p:nvPr/>
        </p:nvSpPr>
        <p:spPr>
          <a:xfrm>
            <a:off x="1841400" y="5235480"/>
            <a:ext cx="2281320" cy="1262160"/>
          </a:xfrm>
          <a:prstGeom prst="wedgeRectCallout">
            <a:avLst>
              <a:gd name="adj1" fmla="val 213189"/>
              <a:gd name="adj2" fmla="val -68935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5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"/>
          <p:cNvSpPr/>
          <p:nvPr/>
        </p:nvSpPr>
        <p:spPr>
          <a:xfrm>
            <a:off x="533520" y="2286000"/>
            <a:ext cx="86104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контроль 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3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МЕДИЦИНСКОЙ ПОМОЩИ БЕРЕМЕННЫМ, РОЖЕНИЦАМ И РОДИЛЬНИЦАМ»:  таблиц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2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вано беременностей из числа женщин, у которых выявлены хромосомные аномалии и (или) пороки развития плода,  прошедших оценку антенатального развития плода при сроке беременности от 19 до 21 нед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е №1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блице 2000 (12-22 недели), графа 4, строка 4 -  число абортов проведенных по медицинским показаниям должно быть больше, чем в форме №3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по другому, но в таком случае объяснить поче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560"/>
              <a:gd name="adj2" fmla="val 3450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4,04&gt;=32,2120,1,20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контрол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6-В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причинах временной нетрудоспособност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 (аборты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мма гра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15,1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зраст старше 50 лет) – если в форме №13 нет данных за женщин старше 50 лет, а в форме №16-ВН есть, пояснить разн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ВН,1000,ст52,гр 14+15+16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9+ 13,2000,ст1,гр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6-В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Рисунок 14" descr=""/>
          <p:cNvPicPr/>
          <p:nvPr/>
        </p:nvPicPr>
        <p:blipFill>
          <a:blip r:embed="rId1"/>
          <a:stretch/>
        </p:blipFill>
        <p:spPr>
          <a:xfrm>
            <a:off x="10598040" y="101520"/>
            <a:ext cx="1594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311120" y="2306520"/>
            <a:ext cx="95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СН № 13 включаются с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 всех прерываниях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оки до 22 недел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о от метода и места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1311120" y="2306520"/>
            <a:ext cx="95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СН № 13 отражаются сведения о методах выполнения медицинского аборта, осложнениях, вызванных абортом, и числе женщин, умерших от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едоставляет свед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504440"/>
            <a:ext cx="10515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е лица - медицинские организ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у местного самоуправления, осуществляющему полномочия в сфере охраны здоровь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местного самоуправления, осуществляющие полномочия в сфере охраны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ргану исполнительной власти субъекта Российской Федерации, осуществляющему полномочия в сфере охраны здоровь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сполнительной власти субъекта Российской Федерации, осуществляющие полномочия в сфере охраны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инистерству здравоохранения 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рриториальному органу Росстата в субъекте Российской Федерации по установленному им адрес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трелка: вниз 3"/>
          <p:cNvSpPr/>
          <p:nvPr/>
        </p:nvSpPr>
        <p:spPr>
          <a:xfrm>
            <a:off x="5322960" y="2160720"/>
            <a:ext cx="485640" cy="412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трелка: вниз 4"/>
          <p:cNvSpPr/>
          <p:nvPr/>
        </p:nvSpPr>
        <p:spPr>
          <a:xfrm>
            <a:off x="5322960" y="3540240"/>
            <a:ext cx="485640" cy="412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11" descr=""/>
          <p:cNvPicPr/>
          <p:nvPr/>
        </p:nvPicPr>
        <p:blipFill>
          <a:blip r:embed="rId1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едоставляет свед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1504440"/>
            <a:ext cx="10515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федерального статистического наблюдения N 13 "Сведения о беременности с абортивным исходом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юридическими лицами - медицинскими организациям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щими в номенклатуру медицинских организаций (приказ Минздрава России от 6 августа 2013 г. N 529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номенклатуры медицинских организаций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ющие акушерско-гинекологическую помощь во время беременности, родов и в послеродовом пери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11" descr=""/>
          <p:cNvPicPr/>
          <p:nvPr/>
        </p:nvPicPr>
        <p:blipFill>
          <a:blip r:embed="rId1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8" name="Объект 7" descr=""/>
          <p:cNvPicPr/>
          <p:nvPr/>
        </p:nvPicPr>
        <p:blipFill>
          <a:blip r:embed="rId1"/>
          <a:stretch/>
        </p:blipFill>
        <p:spPr>
          <a:xfrm>
            <a:off x="841320" y="1536840"/>
            <a:ext cx="10515600" cy="49561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1" name="Группа 13"/>
          <p:cNvGrpSpPr/>
          <p:nvPr/>
        </p:nvGrpSpPr>
        <p:grpSpPr>
          <a:xfrm>
            <a:off x="792000" y="1521000"/>
            <a:ext cx="10101600" cy="5109840"/>
            <a:chOff x="792000" y="1521000"/>
            <a:chExt cx="10101600" cy="5109840"/>
          </a:xfrm>
        </p:grpSpPr>
        <p:pic>
          <p:nvPicPr>
            <p:cNvPr id="72" name="Схема 2" descr=""/>
            <p:cNvPicPr/>
            <p:nvPr/>
          </p:nvPicPr>
          <p:blipFill>
            <a:blip r:embed="rId1"/>
            <a:stretch/>
          </p:blipFill>
          <p:spPr>
            <a:xfrm>
              <a:off x="792000" y="1521000"/>
              <a:ext cx="10101600" cy="51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Box 5"/>
            <p:cNvSpPr/>
            <p:nvPr/>
          </p:nvSpPr>
          <p:spPr>
            <a:xfrm>
              <a:off x="997200" y="2005920"/>
              <a:ext cx="91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9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7"/>
            <p:cNvSpPr/>
            <p:nvPr/>
          </p:nvSpPr>
          <p:spPr>
            <a:xfrm>
              <a:off x="1403640" y="436140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12"/>
            <p:cNvSpPr/>
            <p:nvPr/>
          </p:nvSpPr>
          <p:spPr>
            <a:xfrm>
              <a:off x="829440" y="5697720"/>
              <a:ext cx="117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78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1166760" y="3292560"/>
            <a:ext cx="91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Объект 7" descr=""/>
          <p:cNvPicPr/>
          <p:nvPr/>
        </p:nvPicPr>
        <p:blipFill>
          <a:blip r:embed="rId1"/>
          <a:stretch/>
        </p:blipFill>
        <p:spPr>
          <a:xfrm>
            <a:off x="3902040" y="291960"/>
            <a:ext cx="7704000" cy="6280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442880" y="3349800"/>
            <a:ext cx="272592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9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Группа 9"/>
          <p:cNvGrpSpPr/>
          <p:nvPr/>
        </p:nvGrpSpPr>
        <p:grpSpPr>
          <a:xfrm>
            <a:off x="593640" y="679320"/>
            <a:ext cx="4424400" cy="1171800"/>
            <a:chOff x="593640" y="679320"/>
            <a:chExt cx="4424400" cy="1171800"/>
          </a:xfrm>
        </p:grpSpPr>
        <p:sp>
          <p:nvSpPr>
            <p:cNvPr id="83" name="Прямоугольник 10"/>
            <p:cNvSpPr/>
            <p:nvPr/>
          </p:nvSpPr>
          <p:spPr>
            <a:xfrm>
              <a:off x="593640" y="679320"/>
              <a:ext cx="4424400" cy="1171800"/>
            </a:xfrm>
            <a:prstGeom prst="rect">
              <a:avLst/>
            </a:prstGeom>
            <a:solidFill>
              <a:srgbClr val="2f559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11"/>
            <p:cNvSpPr/>
            <p:nvPr/>
          </p:nvSpPr>
          <p:spPr>
            <a:xfrm>
              <a:off x="593640" y="679320"/>
              <a:ext cx="4424400" cy="11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23880" rIns="71280" tIns="71280" bIns="7128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езультаты доабортного консультирования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Гребенник Татьяна Константиновна</cp:lastModifiedBy>
  <cp:lastPrinted>2018-12-10T14:36:03Z</cp:lastPrinted>
  <dcterms:modified xsi:type="dcterms:W3CDTF">2021-12-10T06:44:47Z</dcterms:modified>
  <cp:revision>176</cp:revision>
  <dc:subject/>
  <dc:title>Презентация PowerPoint</dc:title>
</cp:coreProperties>
</file>